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01BE-E328-490A-904D-4B426DF5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E32-B8C2-4E78-A97D-295F55C3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B5A-1047-45E4-9D23-E16CC8D1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C6A-E5B6-45B3-A3A5-6C306749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07A-7CE0-4AE2-BF8B-E5C02892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AB0-A0C8-47AC-BCB1-3C36DAFB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CB5-B148-4476-8049-21A3998B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A60-D6C3-4EB3-8908-CBEB7161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A55-A8F9-4EC1-AF69-F5E84466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C2D7-F2EE-4DEF-9A55-0685993E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A2C6-69CB-4215-97BB-030F0B4B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1E32-E029-4F04-A698-122B7C3A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AC36-43B9-47DB-B2E2-B87A26D95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2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8:21:04Z</dcterms:created>
  <dc:creator>yakov</dc:creator>
  <dc:description/>
  <dc:language>en-US</dc:language>
  <cp:lastModifiedBy>yakov</cp:lastModifiedBy>
  <dcterms:modified xsi:type="dcterms:W3CDTF">2008-02-06T08:37:10Z</dcterms:modified>
  <cp:revision>2</cp:revision>
  <dc:subject/>
  <dc:title>שקופית 1</dc:title>
</cp:coreProperties>
</file>